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C65-31D2-43BE-9AC3-6C4F51EF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D1B-86BB-4F96-968F-EB35DBD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B36-4613-4722-9E5F-8CDC1D4A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CBC-43D4-4A85-A7ED-C495F55E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01F-84F7-40D4-B682-764D374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E91-814C-4CE8-BA5F-324EBDE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7C6-6E45-4FD4-B935-FD402DB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86B-5DF0-4FF7-A40D-9F3E0496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713-31AD-4FB5-B277-613C9D95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63A-3F51-4A91-AC65-484464F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0B3-E0DA-4CAB-BF02-780EEA4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E15-01FE-4328-B9D1-889E86C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F400-9EAB-4752-B0BB-27C4DDA4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73720"/>
            <a:ext cx="9144000" cy="1079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41800">
            <a:off x="4975200" y="4149360"/>
            <a:ext cx="4168800" cy="2538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908000" y="746280"/>
            <a:ext cx="5400720" cy="40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toria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calit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384880"/>
            <a:ext cx="424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sson 5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Great Railway Debate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92080"/>
            <a:ext cx="615456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reat Railway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366920"/>
            <a:ext cx="8218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egacy of the rai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feat to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 an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ck-on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359" r="0" b="0"/>
          <a:stretch/>
        </p:blipFill>
        <p:spPr>
          <a:xfrm>
            <a:off x="514440" y="3541680"/>
            <a:ext cx="4971960" cy="2863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1953" t="6447" r="1302" b="1267"/>
          <a:stretch/>
        </p:blipFill>
        <p:spPr>
          <a:xfrm>
            <a:off x="5813280" y="3537000"/>
            <a:ext cx="1498680" cy="135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11035" r="0" b="4618"/>
          <a:stretch/>
        </p:blipFill>
        <p:spPr>
          <a:xfrm>
            <a:off x="5823000" y="5021280"/>
            <a:ext cx="1498680" cy="136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8:17:29Z</dcterms:created>
  <dc:creator>Rob Halon</dc:creator>
  <dc:description/>
  <dc:language>en-US</dc:language>
  <cp:lastModifiedBy>Information Systems Services</cp:lastModifiedBy>
  <dcterms:modified xsi:type="dcterms:W3CDTF">2004-04-29T13:52:35Z</dcterms:modified>
  <cp:revision>12</cp:revision>
  <dc:subject/>
  <dc:title>Slide 1</dc:title>
</cp:coreProperties>
</file>